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AE7-2CA2-4988-B08D-937D7C7D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9EE-7841-47F3-B42B-8E52449B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513-F81B-4C42-96C1-9F262A99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E6F-088B-4B0A-8A33-234456F0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B3B1-BD5C-44FA-94AC-366A9C13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1FFD-A1F7-498A-B8A3-A95E4FEF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33E0-5E78-450C-B622-A43D2082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EE2-9309-4B91-9F04-5549F284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24F4-D86A-42D9-87FB-4706B4D4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9DD2-502C-4904-A1C4-C9D6D1F7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A28-E5ED-4723-B2FB-CCE423E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D0F-0744-49B1-9C96-2702B396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A420-8806-4CB4-A192-306D40B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E0E6-CE0A-4680-A8FC-2E22E6D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12EF-21CF-416D-B4A6-938754C3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9EC3-BF6C-465D-9031-8C298711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6BAF-2DDE-471E-8AE3-DD88B7C2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4A6D-F238-49B5-9CBE-81624EA7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CBEE-B047-4EA0-82B5-E3DE484E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799B-0DD8-43F6-9FCB-12FC646E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64B8-372F-44D8-B8A9-D2473617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39C8-6F2D-4EF1-90D2-B598F23C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5BB-B80E-4265-A279-EADF4A4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8A0E-779B-4F80-AA41-D079E6F3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804C-0567-456C-AFBA-9631833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DE72-802E-4538-9099-D2B05AF1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825E-4B41-446D-BD6E-0A82BEE6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4967-9DCE-42C1-B38E-CA163AF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16CA-7B64-4E36-B5C1-07870A8A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43E3-3887-47D1-A50A-4634F31B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223-EA32-44D1-922F-657D9844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5FF-D235-44DA-BF05-B6658973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FA8-AC4E-4E5E-B14D-7859D1F4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0A1-1DE3-436D-A506-AD1A4FE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BD3-8070-49A0-9695-10C1A64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16F-EAFF-4E6A-998E-BF8C70A3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3E4-8DB1-4F47-9784-A577FC22E0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C411-DBED-44A1-8373-4F9262727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24D-CF04-4734-B532-4FEE1941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1484280"/>
            <a:ext cx="914400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ХИРУРШКА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АНАТОМИЈА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ГЛАВЕ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И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В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ПРОПЕДЕВТИКА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У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МАКСИЛОФАЦИЈАЛНОЈ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ХИРУРГ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ОБОЉЕЊА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МАКСИЛАРНОГ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СИ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33320" y="133200"/>
            <a:ext cx="654120" cy="1067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981000" y="424800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extBox 9" descr=""/>
          <p:cNvPicPr/>
          <p:nvPr/>
        </p:nvPicPr>
        <p:blipFill>
          <a:blip r:embed="rId3"/>
          <a:stretch/>
        </p:blipFill>
        <p:spPr>
          <a:xfrm>
            <a:off x="1573200" y="285840"/>
            <a:ext cx="544356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РЕТРОМАКСИЛАР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5035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a maxillae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и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ускулату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ате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ramusa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mandibu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temporalis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issur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terigomaksilaris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om pterigopalatinom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ратемпор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ор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и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нс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екс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preview_html_34f7b593"/>
          <p:cNvPicPr/>
          <p:nvPr/>
        </p:nvPicPr>
        <p:blipFill>
          <a:blip r:embed="rId2"/>
          <a:stretch/>
        </p:blipFill>
        <p:spPr>
          <a:xfrm>
            <a:off x="5254560" y="1928880"/>
            <a:ext cx="3889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ffffff"/>
                </a:solidFill>
                <a:latin typeface="Arial"/>
              </a:rPr>
              <a:t>FOSSA PTERYGOPALAT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550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 pterygopalatina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линас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чаном 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ате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шт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infratemporalis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вл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canalis palatinus ma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issurae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orbitalis inferior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ganglion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phenopalatinum,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axillaris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уш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n. maxillar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n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terygopalatini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n.infraorbit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11_v2_in_pterygopalatine_fossa_copy"/>
          <p:cNvPicPr/>
          <p:nvPr/>
        </p:nvPicPr>
        <p:blipFill>
          <a:blip r:embed="rId2"/>
          <a:stretch/>
        </p:blipFill>
        <p:spPr>
          <a:xfrm>
            <a:off x="5429160" y="1571760"/>
            <a:ext cx="3533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ТЕРИГОМАНДИБУЛАР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142640"/>
            <a:ext cx="8607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Spatium pterygomandibulare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це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terygoideus medialis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нутраш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ramus mandibu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л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пу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pterygoideus lateralis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тпу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вор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фаринге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ти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дуж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usculus temporal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infratemporal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tempor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мандибулар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a. v. et nervus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alveolaris inferior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nervus lingualis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нс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lexus pterygoideu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 pterygopalatina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-265680360" y="2147506560"/>
            <a:ext cx="2404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um pterygomandib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25640" y="2147506560"/>
            <a:ext cx="3819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rostor u vidu rascepa, koji se nalazi izmedj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74825080" y="2147506560"/>
            <a:ext cx="375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-266059800" y="2147506560"/>
            <a:ext cx="1863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ygoideus medi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-247465800" y="2147506560"/>
            <a:ext cx="158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nutrašnje stra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26512560" y="2147506560"/>
            <a:ext cx="163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us mandibula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30103280" y="2147506560"/>
            <a:ext cx="2472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je kaudalno donjim pol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-266059440" y="2147506560"/>
            <a:ext cx="2105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pterygoideus medi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-59088240" y="2147506560"/>
            <a:ext cx="253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puno, a prema kranijalno 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102697560" y="2147506560"/>
            <a:ext cx="2062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pterygoideus later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33534520" y="2147506560"/>
            <a:ext cx="990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otpu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-266065920" y="2147506560"/>
            <a:ext cx="7063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voren. Prema medijalno je u kontaktu sa parafaringealnim prostorom, a prema nazad 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-266062320" y="2147506560"/>
            <a:ext cx="3684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tidnom ložom. Uzduž medijalne površ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49205880" y="2147506560"/>
            <a:ext cx="175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us tempor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158489640" y="2147506560"/>
            <a:ext cx="1623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je u kontaktu 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61044640" y="2147506560"/>
            <a:ext cx="573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-266058720" y="-2147461920"/>
            <a:ext cx="134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tempor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-108664920" y="-2147461920"/>
            <a:ext cx="23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-102214800" y="-2147461920"/>
            <a:ext cx="1034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-41791680" y="-2147461920"/>
            <a:ext cx="2651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gomandibularna loža sadrž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124925760" y="-2147461920"/>
            <a:ext cx="1121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, ve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193201560" y="-2147461920"/>
            <a:ext cx="23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-220179600" y="-2147461920"/>
            <a:ext cx="1480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us alveolar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-266057280" y="-2147461920"/>
            <a:ext cx="802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-144631800" y="-2147461920"/>
            <a:ext cx="55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"/>
          <p:cNvSpPr/>
          <p:nvPr/>
        </p:nvSpPr>
        <p:spPr>
          <a:xfrm>
            <a:off x="-114827760" y="-2147461920"/>
            <a:ext cx="144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us lingual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-242682840" y="-2147461920"/>
            <a:ext cx="3221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ski krvni sudovi tog prostora idu k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185145840" y="-2147461920"/>
            <a:ext cx="1716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xus pterygoid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2"/>
          <p:cNvSpPr/>
          <p:nvPr/>
        </p:nvSpPr>
        <p:spPr>
          <a:xfrm>
            <a:off x="-266055840" y="-2147461920"/>
            <a:ext cx="23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-180677160" y="-2147461920"/>
            <a:ext cx="1857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a pterygopalat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ДЕО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ЈЕ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tongue_new_small"/>
          <p:cNvPicPr/>
          <p:nvPr/>
        </p:nvPicPr>
        <p:blipFill>
          <a:blip r:embed="rId2"/>
          <a:stretch/>
        </p:blipFill>
        <p:spPr>
          <a:xfrm>
            <a:off x="5867280" y="2133720"/>
            <a:ext cx="3124440" cy="30574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7640" y="1164960"/>
            <a:ext cx="624996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ишић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г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д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гов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струк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ункциј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скулату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пре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уга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Sulcus terminalis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ч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н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papillae circumvalatae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foramen caecum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ун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(Nuhn)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вод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лив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geniohyoideus-a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genioglossus-a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зив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ђупрост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нутраш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скулату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36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АТОМ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ПРЕДЊИ ПРЕДЕО В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БОЧНИ ПРЕДЕО В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СУБЛИНГВАЛНИ ПРО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СУБМАНДИБУЛАРНИ ПРО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СУБМНЕТАЛНА ЛО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ПАРАФАРИНГЕАЛНИ ПРО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968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ХИРУРШК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АНАТОМИЈ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илиндрича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е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8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у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л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меште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рга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мф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живц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ишић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ас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келе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броја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лемен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лазе</a:t>
            </a:r>
            <a:r>
              <a:rPr b="0" lang="es-E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дућ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ла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руд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ш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брнут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томск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лемен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меште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25198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дњ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з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уромускулар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25198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"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церал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"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вед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мишљ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ва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њ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тра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ичме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т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ДЕЛ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432080"/>
            <a:ext cx="539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пограф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зир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љ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нфигура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ктиц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л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дн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централн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(regio colli anterior)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редиш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терноклеидомастоид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атерал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ч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(regio colli lateral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с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очавај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ове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ерноклеидомастоид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ишић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с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се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ентрал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тер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TMQ0Le_tg6r5CcWEtzQL-S6Unyi2ar_GnJDBblNO1AlDB5YQOm"/>
          <p:cNvPicPr/>
          <p:nvPr/>
        </p:nvPicPr>
        <p:blipFill>
          <a:blip r:embed="rId2"/>
          <a:stretch/>
        </p:blipFill>
        <p:spPr>
          <a:xfrm>
            <a:off x="5429160" y="1571760"/>
            <a:ext cx="3517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АСЦИЈ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 предњем пределу врата, све елементе непотпуно "раздвајају" три вратне фас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ршна, средња и дубока фасција врата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lamina superficialis fasciae cervicalis)</a:t>
            </a:r>
            <a:r>
              <a:rPr b="0" i="1" lang="sr-C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m10"/>
          <p:cNvPicPr/>
          <p:nvPr/>
        </p:nvPicPr>
        <p:blipFill>
          <a:blip r:embed="rId2"/>
          <a:stretch/>
        </p:blipFill>
        <p:spPr>
          <a:xfrm>
            <a:off x="5435640" y="1600200"/>
            <a:ext cx="34225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АСЦИЈ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400" y="14130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површн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lamina superfici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р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вој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кожј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кож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platysma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ед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егну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охиоид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ткичм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р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 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ичм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з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ља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ћ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ракалн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ш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зир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лож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у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сед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ган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"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аб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чк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"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ж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едина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азлене 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шир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стин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в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иво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пас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мплика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4932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ој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ужец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ч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а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д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ђуфасциј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ажн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едишњ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patium viscerale colli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кљ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шн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др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њ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ита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им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фаринге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д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дрела)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ужет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septum longitudinal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стин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атомс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пре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-22596840" y="-529346880"/>
            <a:ext cx="734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voji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-22598280" y="-351801000"/>
            <a:ext cx="2140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nim produžecima (b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-2922840" y="-351801000"/>
            <a:ext cx="244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2436120" y="-351801000"/>
            <a:ext cx="5159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im i prednjim) duboka fascija vrata, zajedno sa ostale dve, gra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-22610880" y="-174255120"/>
            <a:ext cx="716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edjufascijalne prostore vrata. Važniji od njih su: središnji prostor - spatium viscerale col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-22606200" y="3291120"/>
            <a:ext cx="6870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 kome se nalaze grkljan, vratni deo dušnika, ždrela i jednjaka kao i štitna žlezda i vil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0979800" y="3291120"/>
            <a:ext cx="244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1475520" y="3291120"/>
            <a:ext cx="26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-22595760" y="180837000"/>
            <a:ext cx="113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timus). Ve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-9874800" y="180837000"/>
            <a:ext cx="638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́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e delom pomenut, retrofarinksni prostor (izmedju zadnje strane ždrela, dubok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-22608000" y="358382880"/>
            <a:ext cx="5852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scije vrata i njenih produžetaka (septum longitudinale)), kojim je mog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2449600" y="358382880"/>
            <a:ext cx="1619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 direktno širenj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-22602600" y="535906080"/>
            <a:ext cx="478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fekcije iz vrata u medijastinum, bez anatomskih preprek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img_10"/>
          <p:cNvPicPr/>
          <p:nvPr/>
        </p:nvPicPr>
        <p:blipFill>
          <a:blip r:embed="rId2"/>
          <a:stretch/>
        </p:blipFill>
        <p:spPr>
          <a:xfrm>
            <a:off x="4933800" y="1407960"/>
            <a:ext cx="4071960" cy="47484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7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АТОМ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ЛА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РБ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SSA TEMPOR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УКАЛ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SSA C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ОТИДН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ТРОМАКСИЛАР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SSA PTERYGOPA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ТЕРИГОМАНДИБУЛАР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67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по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сцерал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асцијал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ђу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ротид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(vagina carotica)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лик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(a. carotis communis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 v. jugularis interna)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хваљују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ћ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кре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ла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виј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езавис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лик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22"/>
          <p:cNvPicPr/>
          <p:nvPr/>
        </p:nvPicPr>
        <p:blipFill>
          <a:blip r:embed="rId2"/>
          <a:stretch/>
        </p:blipFill>
        <p:spPr>
          <a:xfrm>
            <a:off x="5076720" y="1557360"/>
            <a:ext cx="37432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УБЛИНГВ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22320" y="1292400"/>
            <a:ext cx="5608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лингв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нутраш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ш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лохиоид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usculus genioglossu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geniohyoide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usculus mylohyoide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штр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андибу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лингв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лингв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вод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на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говарају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nervus lingu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mb4_132"/>
          <p:cNvPicPr/>
          <p:nvPr/>
        </p:nvPicPr>
        <p:blipFill>
          <a:blip r:embed="rId2"/>
          <a:stretch/>
        </p:blipFill>
        <p:spPr>
          <a:xfrm>
            <a:off x="5581800" y="1284120"/>
            <a:ext cx="3483000" cy="48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УБМАНДИБУЛАР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52563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гов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терал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spatium paramandibulare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бух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 digastricu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бух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digastricu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 mylohyoideus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platysma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кож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љувач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мф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0208"/>
          <p:cNvPicPr/>
          <p:nvPr/>
        </p:nvPicPr>
        <p:blipFill>
          <a:blip r:embed="rId2"/>
          <a:stretch/>
        </p:blipFill>
        <p:spPr>
          <a:xfrm>
            <a:off x="5500800" y="1785960"/>
            <a:ext cx="3657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УБМНЕТАЛН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О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14392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ент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бух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digastric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тпу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вој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ар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верген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ч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ен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гл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пе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з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оид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hyoideu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лингвалн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атизм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кож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ж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вр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п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реча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љ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ент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ент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мф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с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треси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в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АРАФАРИНГЕ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фарингеал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угуљас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за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се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ор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з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ба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носн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ramen ovale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ramen</a:t>
            </a:r>
            <a:r>
              <a:rPr b="0" lang="sr-Latn-R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pinosum</a:t>
            </a:r>
            <a:r>
              <a:rPr b="0" lang="sr-Latn-RS" sz="2400" spc="-1" strike="noStrike">
                <a:solidFill>
                  <a:srgbClr val="025198"/>
                </a:solidFill>
                <a:latin typeface="Arial"/>
              </a:rPr>
              <a:t>-a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ч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и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аринк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атералн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usculus pterygoideus medi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фарингеал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тилофарингеално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понеуроз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ељ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ел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Cambria"/>
              <a:buChar char="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ч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и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аринк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Cambria"/>
              <a:buChar char="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дњ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лик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ер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пад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чни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ли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-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ПЕДЕВТИ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ОФАЦИЈАЛНОЈ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ИРУР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09640" y="1699920"/>
            <a:ext cx="792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МНЕЗ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АЦ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БИЈЕ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ЦИЈЕНТ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АТИО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ЧН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МНЕЗ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ВИК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ЛЕРГИ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АЦ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ЕМЕН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НК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ЛЕС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РАЈАЊ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ПРОВЕДЕНО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ЕЧЕ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ОДИЧН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МНЕЗ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АЦ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ЛЕСТИМ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ЛИЖОЈ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ОД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ПЕДЕВТИ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ОФАЦИЈАЛНОЈ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ИРУР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КЛИНИЧКИ ПРЕГЛ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ИНСП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ПАЛП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ДОДАТНА ДИЈАГНОСТИЧКА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25198"/>
                </a:solidFill>
                <a:latin typeface="Arial"/>
              </a:rPr>
              <a:t>EHO</a:t>
            </a:r>
            <a:r>
              <a:rPr b="0" i="1" lang="sr-CS" sz="2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sr-Latn-RS" sz="2800" spc="-1" strike="noStrike">
                <a:solidFill>
                  <a:srgbClr val="025198"/>
                </a:solidFill>
                <a:latin typeface="Arial"/>
              </a:rPr>
              <a:t>C</a:t>
            </a:r>
            <a:r>
              <a:rPr b="0" i="1" lang="sr-CS" sz="2800" spc="-1" strike="noStrike">
                <a:solidFill>
                  <a:srgbClr val="025198"/>
                </a:solidFill>
                <a:latin typeface="Arial"/>
              </a:rPr>
              <a:t>Т, М</a:t>
            </a:r>
            <a:r>
              <a:rPr b="0" i="1" lang="sr-Latn-RS" sz="2800" spc="-1" strike="noStrike">
                <a:solidFill>
                  <a:srgbClr val="025198"/>
                </a:solidFill>
                <a:latin typeface="Arial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назал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ба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споређ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Њихо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нутрашњос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блож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лузокож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томс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ункционал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ели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“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муницир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”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ни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одници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еб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тв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јвећ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inus maxillaris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орњ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лиц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maxilla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inus front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чеон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os frontale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R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inus sphenoid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клинастој 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os sphenoidale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inus ethmoid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ситаст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os ethmoidale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Arial"/>
              </a:rPr>
              <a:t>SINUS MAXILL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пљ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сталн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зи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развиј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ост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ве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ез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формитет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л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о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ирам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з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рену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упљ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игомати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бу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лис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нутраш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упљи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пљ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раорбитал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ивц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теригопалатинс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ратемпор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мам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Sinusi2"/>
          <p:cNvPicPr/>
          <p:nvPr/>
        </p:nvPicPr>
        <p:blipFill>
          <a:blip r:embed="rId2"/>
          <a:stretch/>
        </p:blipFill>
        <p:spPr>
          <a:xfrm>
            <a:off x="4930920" y="2276640"/>
            <a:ext cx="4098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7952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РАЂ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ЛУЗОКОЖ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92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н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з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аст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сеудостратификова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и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знач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пит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з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мбра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их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по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једн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спе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ој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ов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ш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пит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личит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инин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ш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еда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ж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је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важн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ункцион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лемен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н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харас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вар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ас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ој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но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и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т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ч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з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моћ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р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лач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лож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ђ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о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ећ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уш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елатиносз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е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нспорту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„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леп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“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аш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ерге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рус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љив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уг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р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е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з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дир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ск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авц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мах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652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6240" y="1235160"/>
            <a:ext cx="88120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т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canalis optic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кроз који у орбиту улази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n. opticus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 и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a. ophtalmica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issurae orbitalis superior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с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ратемпорал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с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палат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 sacci lacrim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ductus lacrim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нак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, o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о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максилар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тмоид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буч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с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з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пт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нонов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псу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иорби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значава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иос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ове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R1dbllulQkZnL7KNjkjDW_C4OYp_noywR4FGEigYKZWS8cerXP-6CGmQ"/>
          <p:cNvPicPr/>
          <p:nvPr/>
        </p:nvPicPr>
        <p:blipFill>
          <a:blip r:embed="rId2"/>
          <a:stretch/>
        </p:blipFill>
        <p:spPr>
          <a:xfrm>
            <a:off x="684360" y="228600"/>
            <a:ext cx="1523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57120" y="1844640"/>
            <a:ext cx="7427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ИХ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2920" y="1341360"/>
            <a:ext cx="8786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овилич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ор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овљ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ликује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ин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л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з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ин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р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и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рус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н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рект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и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мф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шири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л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це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игр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веоларн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еб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завис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витализира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џеп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ч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ркумскрипт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шир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даљ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м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НТОГЕ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НУЗИТ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9440" y="1142640"/>
            <a:ext cx="89632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о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ед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рочитп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гађ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paradontitis apicali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рив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фори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ж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оантралних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фор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нт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ра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агулу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лвео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лвео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з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;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 нег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ут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г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н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зир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а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струмен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апик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њ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сорбу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периостеал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ансосе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ЗРОЧНИ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3840" y="1500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з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уте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ск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орњовилич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зн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оје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иног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р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н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узроковачи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лор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чињен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могућа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тојањ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но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врши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иференцијац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па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иноге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КСИЛАР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З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7640" y="119520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сто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ражен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праорбиталн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лепоочном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орњој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вилиц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дружен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олови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високом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мператур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гоб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нат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јачавај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мет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тицањ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крет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мпиј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ражениј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лесни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пори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гињањ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лав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ацијент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јављу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бјективн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сећај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к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чан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држај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ећ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бјектив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ив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ла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о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ни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болел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сетљив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уб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ст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сетљив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еркусиј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црвенил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лузниц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"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пструкциј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с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одник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хваће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"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крециј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редњ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сном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одник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купљањ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д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рактеристич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20480" y="1557360"/>
            <a:ext cx="826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ијагноз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тављ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линичк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гле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нимк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бјектив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и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нојн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крец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редње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одни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ноје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кал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мптом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иса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нима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казу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ифуз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сенч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чита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" y="-20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53520" y="1412640"/>
            <a:ext cx="8466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ме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тибиот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тибиогра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авља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п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азоконстриктор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федри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– 2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огући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ена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ив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ро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в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чни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анир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хир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речава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к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оназ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фор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огућ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енаж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ав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кре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кцио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мирива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с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сниј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вара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визиј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ксилар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з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чет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ма хронича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пикал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одонт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ЛИНИЧК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МПТОМ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39840" y="1267920"/>
            <a:ext cx="84643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јектив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гоб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знат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иш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с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олел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личи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епе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мет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у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ри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п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ећ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тис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др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рм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е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лик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вађ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ем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ав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ђ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еж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ена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ив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ро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в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долази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ацерба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ављ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гр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чај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л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к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хтев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в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стра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в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већ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о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чаје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опход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к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пер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дебља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липоз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њ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стран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ј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одник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оантрал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ператив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вор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ч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к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пер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лдве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к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(Caldwell-Luc)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вар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оантр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ANd9GcR1dbllulQkZnL7KNjkjDW_C4OYp_noywR4FGEigYKZWS8cerXP-6CGmQ"/>
          <p:cNvPicPr/>
          <p:nvPr/>
        </p:nvPicPr>
        <p:blipFill>
          <a:blip r:embed="rId2"/>
          <a:stretch/>
        </p:blipFill>
        <p:spPr>
          <a:xfrm>
            <a:off x="685800" y="228600"/>
            <a:ext cx="101916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cs-120-0-19733400-1295975641"/>
          <p:cNvPicPr/>
          <p:nvPr/>
        </p:nvPicPr>
        <p:blipFill>
          <a:blip r:embed="rId3"/>
          <a:stretch/>
        </p:blipFill>
        <p:spPr>
          <a:xfrm>
            <a:off x="684360" y="981000"/>
            <a:ext cx="75978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2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ЦИСТ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УКОК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mucous-retention-cyst1"/>
          <p:cNvPicPr/>
          <p:nvPr/>
        </p:nvPicPr>
        <p:blipFill>
          <a:blip r:embed="rId3"/>
          <a:stretch/>
        </p:blipFill>
        <p:spPr>
          <a:xfrm>
            <a:off x="457200" y="2617920"/>
            <a:ext cx="840096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НТОГЕН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ЦИ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6800" y="1197000"/>
            <a:ext cx="77659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ој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т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орит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рникс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ћ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вој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зити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линичк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глед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стик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JClinImagingSci_2011_1_1_54_90074_u2"/>
          <p:cNvPicPr/>
          <p:nvPr/>
        </p:nvPicPr>
        <p:blipFill>
          <a:blip r:embed="rId2"/>
          <a:stretch/>
        </p:blipFill>
        <p:spPr>
          <a:xfrm>
            <a:off x="985680" y="3500280"/>
            <a:ext cx="725832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Мукокел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840" y="1052280"/>
            <a:ext cx="91281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кок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тохистолош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ниг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стич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м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назал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уњ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коз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држ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ст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ш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ид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3%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чаје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г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коке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зн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д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број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ор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у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пу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јашњ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н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их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постав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стру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вод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ена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ст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во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ш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акт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иносинузитис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е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литериш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во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омал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иомеатал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плек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хо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ера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и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коке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ај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колик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атолог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падљ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плик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ву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унд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рур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mucous-retention-pseudocyst-left-arrows-copy"/>
          <p:cNvPicPr/>
          <p:nvPr/>
        </p:nvPicPr>
        <p:blipFill>
          <a:blip r:embed="rId2"/>
          <a:stretch/>
        </p:blipFill>
        <p:spPr>
          <a:xfrm>
            <a:off x="5302080" y="5175360"/>
            <a:ext cx="3841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УМОР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39800" y="162864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мо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тск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удиј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1%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лоћуд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3%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лоћуд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а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ниг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пил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ден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е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ондр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лиг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аноцелуларн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и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дено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денои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стич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укепидермои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рк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ра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мф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т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80%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очаст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аноцелу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quamous cell carcinoma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0" descr="AnnMaxillofacSurg_2012_2_1_86_95333_f2"/>
          <p:cNvPicPr/>
          <p:nvPr/>
        </p:nvPicPr>
        <p:blipFill>
          <a:blip r:embed="rId2"/>
          <a:stretch/>
        </p:blipFill>
        <p:spPr>
          <a:xfrm>
            <a:off x="900000" y="3089160"/>
            <a:ext cx="7470720" cy="3343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1048885-1077440-1875"/>
          <p:cNvPicPr/>
          <p:nvPr/>
        </p:nvPicPr>
        <p:blipFill>
          <a:blip r:embed="rId3"/>
          <a:stretch/>
        </p:blipFill>
        <p:spPr>
          <a:xfrm>
            <a:off x="905040" y="404640"/>
            <a:ext cx="3873240" cy="2632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JOralMaxillofacPathol_2012_16_1_137_92993_f4"/>
          <p:cNvPicPr/>
          <p:nvPr/>
        </p:nvPicPr>
        <p:blipFill>
          <a:blip r:embed="rId4"/>
          <a:stretch/>
        </p:blipFill>
        <p:spPr>
          <a:xfrm>
            <a:off x="4859280" y="404640"/>
            <a:ext cx="35146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ЛИНИЧ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ЛИ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УМОР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154160"/>
            <a:ext cx="813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8800" indent="-20880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Тумор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ткрива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ранијим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фаза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болест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манифесту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специфичним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имптоми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пут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сећај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тежаног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осног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исањ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осн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екрециј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в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тра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уж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4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дељ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требан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етаљан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пецијалистичк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реглед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ијагностичк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брад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каснијим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фаза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болест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болесник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алармантниј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нављајућ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крварењ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епистакс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тицањ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друч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друч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пц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могућност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тварањ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уролошк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спад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луча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к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могућ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вослик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мањен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кретљивост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к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дређеним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мерови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УМОР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кључив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вис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ст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кстирпациј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енигних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секциј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лигних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циј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т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лучај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гзентерациј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рб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датн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виснос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ст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ра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лихеми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ffffff"/>
                </a:solidFill>
                <a:latin typeface="Arial"/>
              </a:rPr>
              <a:t>FOSSA TEMPOR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4180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 temporalis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в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епоо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ј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већ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и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вц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issurae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terygomaxillar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палатинск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м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issurae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orbitalis inferior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ор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тпу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lexus pterygoide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a. maxillar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говарају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ћ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р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300px-Temporal_fossa"/>
          <p:cNvPicPr/>
          <p:nvPr/>
        </p:nvPicPr>
        <p:blipFill>
          <a:blip r:embed="rId2"/>
          <a:stretch/>
        </p:blipFill>
        <p:spPr>
          <a:xfrm>
            <a:off x="5219640" y="2230560"/>
            <a:ext cx="3784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БУК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masseter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псу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в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с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стуч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ша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Bichat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се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e infratemporalis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рник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ногоброј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пи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ливар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укал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говарају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. et v. facialis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masticator1316297441865"/>
          <p:cNvPicPr/>
          <p:nvPr/>
        </p:nvPicPr>
        <p:blipFill>
          <a:blip r:embed="rId2"/>
          <a:stretch/>
        </p:blipFill>
        <p:spPr>
          <a:xfrm>
            <a:off x="4859280" y="1268280"/>
            <a:ext cx="40575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4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БУК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5880" y="1643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браз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ир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гл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а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masster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з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ускулату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тежн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buccinator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укал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дњ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вицо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buccinator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њ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вицо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masster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9370600" y="-351801000"/>
            <a:ext cx="1201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dju miš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-82242000" y="-351801000"/>
            <a:ext cx="207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braza i prednje i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-68975280" y="-351801000"/>
            <a:ext cx="1236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masseter-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-61311240" y="-351801000"/>
            <a:ext cx="840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azi 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-111431520" y="-174255120"/>
            <a:ext cx="3093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apsuli vezivnog tkiva masno jast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-84523320" y="-174255120"/>
            <a:ext cx="4047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Bišat, Bichat) koje prema nazad doseže do fo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-111440880" y="3291120"/>
            <a:ext cx="7218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temporalis. Sluzokoža obraza ide ka forniksu gornje i donje vilice. Sadrži mnogobroj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-111426480" y="180837000"/>
            <a:ext cx="743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-101329920" y="180837000"/>
            <a:ext cx="4903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žlezde i papilu salivaris bukalis. Tu se nalaze odgovaraj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-69405120" y="180837000"/>
            <a:ext cx="2045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rvni sudovi arterija 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-111426480" y="358359840"/>
            <a:ext cx="123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a facijal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436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ffffff"/>
                </a:solidFill>
                <a:latin typeface="Arial"/>
              </a:rPr>
              <a:t>FOSSA CAN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4320" y="1699920"/>
            <a:ext cx="4959360" cy="35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д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e canina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у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ате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укал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и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orbicularis oris,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levator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labii oris superior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виц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buccin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834279-835401-129"/>
          <p:cNvPicPr/>
          <p:nvPr/>
        </p:nvPicPr>
        <p:blipFill>
          <a:blip r:embed="rId2"/>
          <a:srcRect l="0" t="7566" r="0" b="11341"/>
          <a:stretch/>
        </p:blipFill>
        <p:spPr>
          <a:xfrm>
            <a:off x="4643280" y="1557360"/>
            <a:ext cx="41054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АРОТИДН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О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880" y="1195560"/>
            <a:ext cx="5040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 retromandibular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илои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фраг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ram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andibu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masseter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pterygoides medi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љ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ш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на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ти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тпу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тид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фарингеал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 retromandibularis 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т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уњ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glandulom parot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F66124-008-f056a%20-%20small"/>
          <p:cNvPicPr/>
          <p:nvPr/>
        </p:nvPicPr>
        <p:blipFill>
          <a:blip r:embed="rId2"/>
          <a:stretch/>
        </p:blipFill>
        <p:spPr>
          <a:xfrm>
            <a:off x="4978440" y="1413000"/>
            <a:ext cx="41655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1T23:44:46Z</dcterms:modified>
  <cp:revision>738</cp:revision>
  <dc:subject/>
  <dc:title>Diapositiva 1</dc:title>
</cp:coreProperties>
</file>